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77B-F293-4009-9C36-B26BC832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C3E-9DA7-4F01-9719-10C5D630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BA0-AB43-4F3A-B46A-C8B28FB7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4F8-2CBE-4026-A1F3-49F3D746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D6E4-EEEF-42A7-9CA8-0CC6EB35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745E-E1BA-4352-A883-67A198FA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EBE4-FB87-446F-B10B-94EBE53B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B391-58C9-4F4B-BA9C-5A1478B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624B-AF79-4BCD-8483-5EC07AC4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EAC-E798-4CA2-A400-7B5728A3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DAC9-C278-4460-B155-ED785F1B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10B-6875-426C-BC51-02187D2E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EE26-D267-40A8-91AF-4B87A90B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4807-0B33-4221-9117-AA5ABAB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173-DC3F-4F6F-93E1-9803FD48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ED9-5FAC-42D1-A8E2-FF32C42A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F75-D1CA-432C-8B5A-9CB9DC10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F3A-D47F-4202-8233-E3FB6BE7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C8E-A872-4A3D-83F8-A03BBF9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748-C277-4A18-BCF1-D42AD6CC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C45-F5CF-47AF-ADEA-3FF6C069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1F8-9883-437E-8EF9-5741387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958-37BA-4247-B24F-45BF548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3CD-48B9-40F3-9EE1-819F7ED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074-2A8B-403A-BC9F-6E7818C08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981-5830-4C19-B903-7162F9F7CD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05320" y="8380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7621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58280" y="503712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5840" y="48769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5320" y="45720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56272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567160"/>
            <a:ext cx="5410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ssenti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s/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_x0010_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class l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Knows, understands, able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8076960" cy="581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29000" y="380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0760" y="55627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657600"/>
            <a:ext cx="56390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extu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434340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560680"/>
            <a:ext cx="5867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61048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5335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836720"/>
            <a:ext cx="5105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uring          Understa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Readiness, Interests,    Learning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581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24200" y="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962520"/>
            <a:ext cx="6858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84320" y="1247760"/>
            <a:ext cx="33782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666880"/>
            <a:ext cx="110664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5560" y="2666880"/>
            <a:ext cx="1219320" cy="1054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2666880"/>
            <a:ext cx="12193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74320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1828800" cy="15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762120" y="1523880"/>
          <a:ext cx="975492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975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" y="4495680"/>
          <a:ext cx="8612280" cy="590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495680"/>
                    <a:ext cx="8612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819520"/>
            <a:ext cx="1371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971800"/>
            <a:ext cx="1295280" cy="11206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895480"/>
            <a:ext cx="114300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743200"/>
            <a:ext cx="1214640" cy="12142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ve Universal Cultural Shapes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143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eaching?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squar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1148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  plus sign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057400"/>
            <a:ext cx="4190760" cy="419112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circ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How is </a:t>
            </a: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teaching</a:t>
            </a: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 like a spiral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4419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triang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57:03Z</dcterms:created>
  <dc:creator>Toni Theisen</dc:creator>
  <dc:description/>
  <dc:language>en-US</dc:language>
  <cp:lastModifiedBy>Toni Theisen</cp:lastModifiedBy>
  <dcterms:modified xsi:type="dcterms:W3CDTF">2006-10-07T15:26:24Z</dcterms:modified>
  <cp:revision>75</cp:revision>
  <dc:subject/>
  <dc:title>Essential Question:</dc:title>
</cp:coreProperties>
</file>